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F25-4BF2-4B88-B837-E72E3D32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35F-EC9C-47D5-8BAC-A0618E91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020-92E0-4B67-8F88-A107387C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860-C202-43AE-9AF6-44A1B947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869D-0422-4144-A558-6A35D1BC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A95A-2AD8-4646-B342-F993FE9F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32E5-0CEF-46B9-A7B2-60E3CEF1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7C23-71E0-40C0-BA05-6A415062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2F04-F6F1-4683-813B-878D7B85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727A-2E20-4586-B9BA-589B4068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3052-179E-4589-B59F-7241EB97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D83-8553-4295-BD60-3F4896B2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9A56-60AE-4257-8BAB-92323E39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4F58-51BE-4B92-ABFE-969F3D97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1A3F-9282-4E9C-8804-6B28D311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A559-AF83-4A0E-B9E5-ABC414EA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222C-0300-4CAA-BA10-6E1AAA01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42AE-EF2A-41FA-9D78-ACD781C1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8EFA-1707-4ACF-BEAC-5257D77E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A939-3A87-4617-BFB4-D094C11F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49A28-D6BB-4273-864B-2E052F12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98D9B-6408-47D7-B054-97B0B223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2CE-4BFE-4328-B00B-8D2583CB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E3975-E382-44D3-BC5B-A84C405F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4362-93FA-4A84-B42B-2DFB783E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AE2D5-E40B-4835-A721-F2E68F24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98EBB-118E-4A1C-9D9B-BAADCBE5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86041-2F15-4C64-BD5E-C5F0E05E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B716A-C83D-47F9-AA96-E37018FD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141F6-DFF8-493F-8550-708FADBE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F1977-2A7A-4D1A-B34F-68C033B9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D68B9-5D7C-47C6-9EBB-598B9129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C86EB-5D83-4E85-BC16-78A9E582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227-C006-4D43-83E3-1FF8BDA9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C4228-B127-4A78-BBF8-81EA0D54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8D05A-809B-4421-904D-25ECF70B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D69CF-203D-43FC-A6BB-2B4E8E33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13D1-4007-454C-9013-71E8437B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83FFF-E369-4641-97D4-86EEB528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0A5B2-2506-48D0-B635-21BDEE68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5B71A-47F9-47A6-840F-488B19AC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ABFA-21F8-42A0-B62B-832AF9F3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15C0C-0AA0-4961-8C14-E6D5977E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873-B4D7-4E7F-99BE-6AF799E0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54F-A67E-40CF-8625-70F1AB2F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59A-58FE-415D-B96E-1E895C96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103-1B58-4B1C-82DE-91502924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8F0-EECF-484C-8C4C-651D19A9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FC4B-5BB0-4329-8AAB-52B49DCA259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6E3F-7E87-4951-9F81-D831EDC6C91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A29D-BB04-4C7F-800A-49354D03B25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E06F-6F1A-42AA-A002-A95608F69F9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RUSSIA</a:t>
            </a: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’</a:t>
            </a: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S  ECONOMY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y Allessandra Toscanini, Darren Chau, and Skerdilaid Hoti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P4240116"/>
          <p:cNvPicPr/>
          <p:nvPr/>
        </p:nvPicPr>
        <p:blipFill>
          <a:blip r:embed="rId1"/>
          <a:stretch/>
        </p:blipFill>
        <p:spPr>
          <a:xfrm>
            <a:off x="3124080" y="4114800"/>
            <a:ext cx="3200400" cy="1981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5486400" y="2666880"/>
            <a:ext cx="3200400" cy="1905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1607potatoes"/>
          <p:cNvPicPr/>
          <p:nvPr/>
        </p:nvPicPr>
        <p:blipFill>
          <a:blip r:embed="rId3"/>
          <a:stretch/>
        </p:blipFill>
        <p:spPr>
          <a:xfrm>
            <a:off x="2971800" y="1143000"/>
            <a:ext cx="3200400" cy="2066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onstantia"/>
              </a:rPr>
              <a:t>FOOD PRODUCED IN RUSSI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514600" cy="25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tato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r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gar be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l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a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stockphotopro_36014208UKD_no_title"/>
          <p:cNvPicPr/>
          <p:nvPr/>
        </p:nvPicPr>
        <p:blipFill>
          <a:blip r:embed="rId1"/>
          <a:stretch/>
        </p:blipFill>
        <p:spPr>
          <a:xfrm>
            <a:off x="5562720" y="1752480"/>
            <a:ext cx="3276360" cy="4572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onstantia"/>
              </a:rPr>
              <a:t>Manufacturing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St. Petersburg is a shipbuilding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Most manufacturing center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are in western Russ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Factories focus on heavy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Some factories switched to light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Factories in St. Petersburg mak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light machinery, textiles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scientific and medical equip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4674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 resourc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uxite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Gold, Co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ron, Le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etroli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in, Zin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04960" y="1904760"/>
            <a:ext cx="5111640" cy="434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Gold is one of Russia top sourc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C:\Users\cool\AppData\Local\Microsoft\Windows\Temporary Internet Files\Content.IE5\2IUTAM3Y\MP900289272[1].jpg"/>
          <p:cNvPicPr/>
          <p:nvPr/>
        </p:nvPicPr>
        <p:blipFill>
          <a:blip r:embed="rId1"/>
          <a:stretch/>
        </p:blipFill>
        <p:spPr>
          <a:xfrm>
            <a:off x="4208400" y="2209680"/>
            <a:ext cx="34117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 industr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267080" cy="4690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7000"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ndustrial production growth  rate 13.1%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tals are used to make advanced air crafts, ships , missiles,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Defensive technology include- radars, and advanced electronics components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dical and scientific industry include- textiles ,handicrafts ,foodstuff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oad and rail transportation include- communication equipment, tractors, agriculture machinery, and construction equipment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MS900074858[1].wav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Users\cool\AppData\Local\Microsoft\Windows\Temporary Internet Files\Content.IE5\2IUTAM3Y\MP900390146[1].jpg"/>
          <p:cNvPicPr/>
          <p:nvPr/>
        </p:nvPicPr>
        <p:blipFill>
          <a:blip r:embed="rId2"/>
          <a:stretch/>
        </p:blipFill>
        <p:spPr>
          <a:xfrm>
            <a:off x="5105520" y="17524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476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 Volga and Urals Reg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20960"/>
            <a:ext cx="4038480" cy="26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olg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ries almost one-half of Russia’s river traffi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 provides water for irrigation and for hydroelectric pow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home of Russia’s most productive farmland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1981080"/>
            <a:ext cx="4038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ral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ners mine bauxite for aluminum, copper, gold, lead and nick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energy resources such as coal, oil, and natural g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oscow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cow  is Russia economic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argest transportation h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actories are focused on heavy industr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opulation  10,470,318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74800" y="1447560"/>
            <a:ext cx="5111640" cy="4678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3" descr="C:\Users\cool\AppData\Local\Microsoft\Windows\Temporary Internet Files\Content.IE5\04V09QGG\MC900101208[1].wmf"/>
          <p:cNvPicPr/>
          <p:nvPr/>
        </p:nvPicPr>
        <p:blipFill>
          <a:blip r:embed="rId1"/>
          <a:stretch/>
        </p:blipFill>
        <p:spPr>
          <a:xfrm>
            <a:off x="3962520" y="2286000"/>
            <a:ext cx="46717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ussia port c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ussia has 5 important ports c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t is hard for  the port cities to transport goods because  the water in all the other port cities are froze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aliningrad, and St. Petersburg. Murmansk, Vladivostok, and Astrakh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aliningrad has eliminated all taxes on shipping goo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. Petersburg makes light machinery, textiles, scientific, and medical equipm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ile the other port cities trade bring goods to Russia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12" descr="news-StPetersburgAnnounced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682560" y="927000"/>
            <a:ext cx="7864560" cy="2511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9:15:47Z</dcterms:created>
  <dc:creator>cool</dc:creator>
  <dc:description/>
  <dc:language>en-US</dc:language>
  <cp:lastModifiedBy>i7 860</cp:lastModifiedBy>
  <dcterms:modified xsi:type="dcterms:W3CDTF">2010-12-20T21:42:32Z</dcterms:modified>
  <cp:revision>26</cp:revision>
  <dc:subject/>
  <dc:title>Economy</dc:title>
</cp:coreProperties>
</file>